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3CD7-82E6-4AE7-A37C-02C177E1B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B312-4BB9-4568-AD73-5B6E5D96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F72DCC-86E8-4992-A64F-1C0F32A2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D3C136-88D4-482B-98A9-7F9DD5EE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4B19B-A71E-4FB6-8BA1-3B1E5EDB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9265E-D6A9-4F51-8FEB-DFDA14A5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727FE-A423-4091-82B6-1E08F2DE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42BE8-9605-4482-BBAB-F18A7E2C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05D75-DD70-4A19-BD80-7B10E19C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95A1C-DCEB-4D68-A8FE-65B56A527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FB046-4B21-4EB7-BF93-3978800CD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F0D3B-B1B6-4A18-A9DC-CAAE96773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3028-DA69-4D4A-B0A5-50182FDF2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1B4A7E-816E-4650-8644-8ABBC04D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813F9-E9E5-4FF3-80E7-3618EFD8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17DC7E-A9EE-45F6-8DB0-D6E83299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1FC70-3CC6-4A38-9474-CFD3D17C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7F942A-D6C3-4A37-9163-5822CD09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A7D88-734D-4EC6-97F4-743ED593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1EDDE5-E362-4D7E-BE7F-EC240DC1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F79FB-0366-4673-85A0-F5D26350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EC19D-CB24-4441-A8BD-79F81F59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4E4097-9BD7-4021-A7EC-5BFA2B362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2F43-2493-4E18-A70F-2ACA46EBD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9A30A6-C6A1-4BCD-BF40-BFF56529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A95A8-75D9-447B-9DA2-828273EB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30BAA-C4A5-42DF-8482-25B4CED8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E3217-388F-414E-80CC-089466B2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6B179-847E-466F-8792-6D28E5DE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DD788-3380-4182-9F70-A71DCF12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3EFCF-0DD5-4B6B-8FB5-56A88C8E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82B2F-1D0B-4AA3-8586-CF4D91EF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D924A-E062-4554-8DBF-B881D5E1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72356-F6BE-4EAA-9FEC-FB01CA68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0A6C-B6CA-456D-8665-74BC2A3F8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627C5-E573-462A-9E97-259DDE53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2710A-1B01-43B4-A8AF-EEE138BF3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E3668-F716-4294-B7DF-72471F5C7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00651F-D85D-4254-9841-100B97E3B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241D4D-ABA7-4C8A-AA98-88637A1A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F351C4-F0C7-4E2D-BA99-22F90DF7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4FC940-230C-4DA4-95D3-8C6AC48B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5E9669-FEBF-4DF9-9F34-976A8860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FD5219-3519-480D-9868-09A58FFE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431FA6-5001-49B6-988D-47D0AE8A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CD14-99D7-4A8A-83DA-BDA95EC5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A91054-CC6C-4E3D-8F55-CD6025DF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6BF5E0-59F8-4F32-9A11-0320ACB6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EF5242-5D38-47CE-9259-9A6C0A6C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10F5A5-0374-460B-86D7-43BD9BE05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6573C1-7FFC-424A-9888-8D64A0E9F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127B77-4ACA-49BD-ACDC-66DBCD99E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5C297C-546A-4343-A9E0-F181AA97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444113-C386-4200-88E6-81F4E56A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8A05C5-1032-49A9-9769-BA84C70F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67A4DD-AC8A-41D8-9196-0A8E77C2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4F30-5D44-4808-9ED6-3B9C4562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376E25-0B0A-4D73-8E0E-9CA00D22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C3C566-9ED8-459E-BFCD-8354A17C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BBC6A3-14E0-4B25-A157-1E69BBFD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0F78B9-C069-4978-890D-60C6DED2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574F94-1F6A-4A5C-9D1D-5912F6A0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22A2BE-57F6-4700-9768-EAAA86AF6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F1BA98-BEE5-4F20-9D52-A2A43FCD9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3F41BA-32CC-4D37-94FA-C0801A8AC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59639D-B2EF-4AAD-8D9B-FDC2E3ED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25A1F0-7F0B-4CC5-A508-E1C54F80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0E11-FC40-4182-8670-380A043B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90ACC3-4F81-4AB1-A823-BDC6BCBF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1A65C9-F955-46FE-9D62-294DF257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1914A6-4C08-46FE-A24B-FDD65AD0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5FB28F-A752-4EBC-9AFE-E0954986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869B5E-C7E8-43C8-B130-AAFBD719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F64188-6127-4E56-B670-8F8A8DD4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44BA64-BE97-4914-BB9B-27ACAEE5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9E12FE-21D4-4294-8209-24D7E3144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B124D0-6D91-4401-8474-B5315E240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83119F-CF52-4B80-99CE-94F8B0A8D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FAE7-1F55-45AD-996D-0ED2264B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5366D8-D32D-4B73-9DFD-6736A85A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F9AD67-E304-4DB5-B208-D0FCD2BB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D26B23-4BAC-4E84-B8C4-42E659F2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2A16A3-9B9B-466C-BEDA-7BD8C20B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4EE5A9-E3FD-42B6-A4BF-713BBFAE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A6A0F1-8C63-41C3-B53F-DF42869A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B1731D-B6A9-4C6A-AF8B-EA74017D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82B48E-8360-4FEF-A9B3-02124AC0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94B156-EEB1-4F7E-B2D0-5DCFD5D8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0919C0-6E56-4011-A5BB-D051FE22F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732F-C890-4080-87D8-EBBBCD91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DC21EC-48B5-4DDB-8095-E7CEACF00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58F833-4164-4C35-9912-460156460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08061B-8569-4281-ABB0-1B068B39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E24434-CC6D-4A26-B3B3-F7EB1D50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F6B6FC-7A9E-467A-B5FD-9D25DB83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5E3187-1C7C-42BB-AB0C-13A191A3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4DA810-F1FF-4352-A5E1-BB0FE188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7630FF-A9B4-4749-9C3C-F75B3AC2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B22FD1-0305-45EC-8919-1C7965D7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7D0408-79A6-477B-B75C-CD73B81C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A233-D2D3-4CA0-B5B8-55E0CA81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63CDCE-FC03-412D-9CFD-CD328799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D62DC7-8C91-4BBF-892B-FC52282DA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005782-4F1A-4941-98E5-8A8192C78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4CC951-3229-4616-BAA2-080395222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C8D307-66E6-40B9-9CA7-78670603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6C9363-4DAF-4970-BCB3-667DF036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EBBD5C-1A99-4829-9903-904FE399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DBF257-5895-40F4-BBBB-3EA4FEF5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3126DD-D508-482B-8BFD-A169F4AB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679CF8-AC03-4339-864C-9D5B8285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1195-C23B-4F3C-91AF-5AD8D714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83A5-A91F-43DB-9847-1016B924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7E98DA-9852-43E8-BB22-EAECA266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7B5000-2825-4B0D-AD1F-64D88465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986037-DD46-43EA-9F06-2E2CDCF3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FB52B5-7C87-45F4-8A01-3CEE3E9B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053ECB-258A-4C6F-9563-404D18020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189057-416F-426C-9C3A-108A7E24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C721C5-269C-475A-A986-E5580D26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7AAA08-6961-4DA1-9B25-1E281C9E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61E43C-BEE6-4FB6-ADF8-213BC6CF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932621-F069-45AD-A58A-4990092C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806A-E08A-4B8B-9199-BCE4B4A1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99BBCD-3FB9-43D3-8521-E37F32F3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B08F69-F2D5-44A9-8453-CE3F3237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016772-532C-4EC0-9CFA-549AC663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541465-884F-4AC2-A84E-08EF74BB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23FC31-91C5-44D4-A908-242322E1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D98C3F-16DB-44F6-BE4D-B2A14FCB5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30F071-4B2F-4802-9E07-96DAA0991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549AD7-E2A0-45E4-9DD4-401CEEA3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4412FF-0ABF-40A4-897E-04B69B87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AA9CD4-C4DC-4B5A-B9EB-5AF7A04B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35A6-C74A-482B-9627-5176DAD7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6E45F7-415E-4EAF-BE55-13E1F043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BF2716-77BD-443A-9DEA-30A601AF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08A556-4216-4A1D-8F8B-AA68E5BE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04A906-0D43-4DC4-A5FA-ED4F6264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4F66DD-F8E5-48A4-97E0-042113DF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612278-1B21-4B25-BF6C-A61B1C57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C915FC-300B-4CD0-BEE3-8C959A60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C8A04A-546A-402F-8DB4-7BACEC5BF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83B1FE-EEF7-4E7D-B92A-EFC9342D6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47B46B-B649-4FE8-9CC8-5678E2648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7282-5277-4B6F-9F9F-A228B3A1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184820-C8F0-4D27-8B95-AC31E6FA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6B52B7-D781-4DFE-B189-76DF9A1B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1063BA-C7DF-4301-BBFD-B535E9F6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226EBE-3BE3-4DCE-9766-C3DF8856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F306E7-E4B9-4429-B274-63FA24F9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2F6F5B-9F7B-42CD-B1F6-454D927E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BFBA18-92F0-4ADA-BE7D-0134E838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DD4CDC-73C9-44CD-B92C-D41EE142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E9968B-B28B-45C8-97F9-4C9E90F9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B78107-A152-4ECD-94C5-239B7552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7D69-1158-4C8D-ADF3-5629909BB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B5F552-2BF0-4175-8C7D-D0B906BDD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AE69AB-BE92-40B7-9F32-2D653E9DB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7D2218-95BC-481B-A4C0-56B5FF42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849CFC-B3C0-487D-9627-D1800324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A6AEA6-67E6-4EC7-B4BE-2DA63875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474F49-2126-48DE-AFC3-8FF72EC6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8EC4F0-42CA-43FA-B9D2-A7BB0ED1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09B100-70BF-4C78-B7DB-4B5D4037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02CF05-27D2-4EDC-9C07-DA8B40E6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8C7322-D16E-463D-BF1B-71C3A387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1FB1E-F5E9-49CB-BC7F-8415819B0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BB3F45-3B06-45BC-BF49-74440660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792C0E-32EF-4600-BA8F-F661F0944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D9F534-21B0-453B-BDDF-8FA912B09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23BC2-4BE8-4D37-A63C-6D775F4E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7CD95-C7E6-4C20-903F-07DBBCEA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F8BF7-29D2-4A45-8074-E719DD7D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F6535-87BB-4C5A-A307-056CEF76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2C25-B4B3-4711-BB15-13331313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2E16B-E3BE-4658-80F0-D8004FCB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634C4-BEBD-43A6-9A3D-9E4CBCD9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E7AD6-550E-438B-88E2-F48654BA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43468-D666-4278-9AAF-7A9B1BB2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0ECB9-A718-4F22-BDC1-10E7847B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0CEA2-ECF7-4723-B756-9D4CA2E79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07061-5F45-4D5E-A7C4-FF10BDF6D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DFECD-E18D-4C7E-9AFB-3BD65BD32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15DA6-ABAA-4011-B6ED-352E7C55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C317C-46E4-474A-ABCA-30422A89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C3FD-20ED-46B9-9000-C7684486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B334F-9BC3-4A5E-912E-4136CA1D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54BF8-BB16-4893-AC38-FFF024AC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88A65-6194-48CE-BC78-ED88D688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59D8F-68CA-43A4-8031-C0ED51C1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92F70-4337-45B1-8431-3D015EF3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37D60-6F7A-4E88-B282-D570DFF0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6AD82-565D-4E8E-B5F3-6A5A9246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9531D-17E2-4F61-98E9-158E29FC5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7AD6F-2F49-49C4-B8E9-3784F057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AC10E-C49E-4426-A324-FB3C69F4E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51CB-EDC6-4B97-8797-9C26F04E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916A5-1EB4-467E-907D-7B79D69C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9D5F4-4C37-4D6A-A081-E8BA5B31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A2DBF-397C-4421-91FF-9F6842F0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25566-B26F-4F7B-8B62-D3140A54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55436-56D3-492C-BA28-5D6A67D2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CE1F6-C057-4246-B0CF-1E8096B3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95D96-4C66-40FD-B496-BE48C401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124A2-9DAE-40A9-9800-9DE58949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5FCF7-244F-44AE-BCB8-59DE1FB4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ED223-CE1B-40C4-90D9-A1E73421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4E4A-4C21-48FC-AE3E-7DC3185D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DD8C0-0FCB-483A-8DDD-5AC7AC74F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F87C5-D6BE-411D-8467-5D77BD5C0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CC86E-6145-4A49-8597-72D9C276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DB01C-CD44-47E0-873C-4EFDA912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55381-1BA9-4427-8C69-1DD64E61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B5C19-85E0-4F58-A5E5-BCB28A51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1CD79-9B87-4FB6-849E-638809D9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BF047-92B7-4A7F-8DBE-942AEBE0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F03B9-D380-4290-800F-FB41F00E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1DDB1-DE38-44EF-9A5F-845F982E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7DEB-CF0D-4D0E-A50B-EBA2EC86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C4C33-5A93-4E83-A7A9-253193CF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FE11A-8F4C-4D81-AA1F-482F74E72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74EA2-AC16-489F-A013-1946FE0C5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15DE5-5707-4CAE-8982-6148148C2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511D5-693A-449D-973E-93A2DC19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B1889-8507-4AA8-A354-9022745F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B3EC1-84E8-447A-8DD7-C2CC0081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91CE2-0571-4521-ADB1-B1A97025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A9176-3BAC-4E65-8ED7-B2940702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67F48-3568-4FEB-8D67-8D46B76A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E5E4-8C04-4BB4-B024-97796B51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A3381-E8D6-49A5-8DC9-BC97BAE7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8E320-D7E5-4D9E-8749-E0E81335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E8DF1-881C-4950-B7EC-44A20860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980BF-7D0F-4345-85A9-B53EB09D1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A5A97-1EFB-4E69-AE89-D73C9B4AB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908C1-2FED-4535-9D3E-095BCA4B4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642EE-39DC-466A-B67B-D7BC132A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79806-D12B-40FA-ABD9-528DB860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4D32F-9FC1-47EB-A42B-FCF7FDC1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58820-0467-4B87-A7FE-BFFEEF78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87B9-0AB1-40B6-B630-28A139DC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909F8-509A-4042-AEDC-3CDFFE0F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AFF96-D9A2-43B1-BB91-8EEB2D56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FF168-3290-472D-86B1-8DC6435B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0CC45-719E-4152-82A9-55D75C81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74633-B8B3-4698-A5E5-3AE75A55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F388C-17DA-4C84-9950-18927BA08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A3B98-7D5F-43C1-9704-20C1F225E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3A556-7BD6-4384-B14B-FAE83F0DF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01D47-64C2-4BC9-BDAC-8364B7CE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36CB87-69BE-40C7-86A7-13C65B8C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580F-D240-4CEC-BA08-F649FA7F2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656C-5E15-42E5-89FA-AD0DE5C194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EC7B-458E-4B28-8830-8A2EA75658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D411-4639-4A94-B11A-734C258D3F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CAD9-0D1C-47A2-80A1-D1E894EE1B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724A-85EF-401D-8AD4-1ADA7BD7FB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969A-24AD-4C6E-991A-3D636ED9E2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D0BF-9F54-432A-BFB3-64772E4B4F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1DDE-F69B-4F47-A791-7AC6CBA104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1817-4D47-4D83-86D6-06CEC53F92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8424-8302-4E15-A558-4140E257BA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3482-006D-4F4A-B0FB-4F80982C55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4783-2627-424D-B259-E0456D6D89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AB9E-7405-4A1F-95D4-AEA0151478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3663-FFDA-475D-870D-A687A5E02E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40B7-870F-4382-8736-CA7291E772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C957-AE1F-4D1C-AF68-C9FEE25650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4EEE-8D18-4266-A7B9-6DA70C08A9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3EC4-0812-4D91-B19F-C9E9A2FC81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CE93-4C10-4A7D-852B-6283B039BE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2AC8-7B5C-4847-A7F3-5B299E9ACE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5E87-50EE-4FCE-8F0D-EE667C98B2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0150-9D1E-4E5A-8A98-3A41E0BA63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C2AA-7BA0-4F52-AE0F-DA78A8642D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FE17-4055-4267-846E-E3CBCC2813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C0F9-B73F-4A1B-B534-8A971F377F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7950-A31B-451B-9C68-D32AE213AB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E498-B3D6-476D-B9EE-238100B70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746B-C16C-4B6F-B5D1-B97ADD2248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D382-5046-46D7-A509-F89623067F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573B-3C6D-41A4-902E-E93BABD6D3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14FB-DDEA-40B4-A871-61165F1C9C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6972-B0C3-4BFC-9D89-81381B59AF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A40F-114A-46F6-A9DC-C60EFC1E36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9459-43E4-4595-B669-9350E775C9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8887-DD7B-45B2-8066-4179EC1344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8304-67C5-4906-83C6-066395EC38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DCB4-540E-49AE-AC03-9ADA524FEA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1A6B-99A7-4647-B155-3E878D504E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D500-20B3-4EE1-88E0-79CC244E6A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247760" y="3095640"/>
            <a:ext cx="66484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3" name="图片 1" descr=""/>
          <p:cNvPicPr/>
          <p:nvPr/>
        </p:nvPicPr>
        <p:blipFill>
          <a:blip r:embed="rId1"/>
          <a:stretch/>
        </p:blipFill>
        <p:spPr>
          <a:xfrm>
            <a:off x="1562040" y="2171880"/>
            <a:ext cx="60199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6" name="图片 1" descr=""/>
          <p:cNvPicPr/>
          <p:nvPr/>
        </p:nvPicPr>
        <p:blipFill>
          <a:blip r:embed="rId1"/>
          <a:stretch/>
        </p:blipFill>
        <p:spPr>
          <a:xfrm>
            <a:off x="68400" y="1619280"/>
            <a:ext cx="9007200" cy="385776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1" descr=""/>
          <p:cNvPicPr/>
          <p:nvPr/>
        </p:nvPicPr>
        <p:blipFill>
          <a:blip r:embed="rId2"/>
          <a:stretch/>
        </p:blipFill>
        <p:spPr>
          <a:xfrm>
            <a:off x="684360" y="42354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1" descr=""/>
          <p:cNvPicPr/>
          <p:nvPr/>
        </p:nvPicPr>
        <p:blipFill>
          <a:blip r:embed="rId3"/>
          <a:stretch/>
        </p:blipFill>
        <p:spPr>
          <a:xfrm>
            <a:off x="5292720" y="4221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1" descr=""/>
          <p:cNvPicPr/>
          <p:nvPr/>
        </p:nvPicPr>
        <p:blipFill>
          <a:blip r:embed="rId4"/>
          <a:stretch/>
        </p:blipFill>
        <p:spPr>
          <a:xfrm>
            <a:off x="755640" y="46674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1" descr=""/>
          <p:cNvPicPr/>
          <p:nvPr/>
        </p:nvPicPr>
        <p:blipFill>
          <a:blip r:embed="rId5"/>
          <a:stretch/>
        </p:blipFill>
        <p:spPr>
          <a:xfrm>
            <a:off x="5364000" y="4653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1" descr=""/>
          <p:cNvPicPr/>
          <p:nvPr/>
        </p:nvPicPr>
        <p:blipFill>
          <a:blip r:embed="rId6"/>
          <a:stretch/>
        </p:blipFill>
        <p:spPr>
          <a:xfrm>
            <a:off x="755640" y="5113440"/>
            <a:ext cx="3603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257040" y="1219320"/>
            <a:ext cx="8629920" cy="44193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971640" y="1700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971640" y="2637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1042920" y="3500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1042920" y="43657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5" name="图片 2" descr=""/>
          <p:cNvPicPr/>
          <p:nvPr/>
        </p:nvPicPr>
        <p:blipFill>
          <a:blip r:embed="rId1"/>
          <a:stretch/>
        </p:blipFill>
        <p:spPr>
          <a:xfrm>
            <a:off x="453960" y="819000"/>
            <a:ext cx="8237520" cy="57819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684360" y="836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684360" y="17733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755640" y="2637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5"/>
          <a:stretch/>
        </p:blipFill>
        <p:spPr>
          <a:xfrm>
            <a:off x="684360" y="3500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6"/>
          <a:stretch/>
        </p:blipFill>
        <p:spPr>
          <a:xfrm>
            <a:off x="684360" y="4437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7"/>
          <a:stretch/>
        </p:blipFill>
        <p:spPr>
          <a:xfrm>
            <a:off x="684360" y="573408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63360" y="2146320"/>
            <a:ext cx="9017280" cy="25653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755640" y="3500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5364000" y="3500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4"/>
          <a:stretch/>
        </p:blipFill>
        <p:spPr>
          <a:xfrm>
            <a:off x="727200" y="39625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5"/>
          <a:stretch/>
        </p:blipFill>
        <p:spPr>
          <a:xfrm>
            <a:off x="5364000" y="39481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6"/>
          <a:stretch/>
        </p:blipFill>
        <p:spPr>
          <a:xfrm>
            <a:off x="755640" y="4379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7"/>
          <a:stretch/>
        </p:blipFill>
        <p:spPr>
          <a:xfrm>
            <a:off x="5364000" y="437976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图片 3" descr=""/>
          <p:cNvPicPr/>
          <p:nvPr/>
        </p:nvPicPr>
        <p:blipFill>
          <a:blip r:embed="rId1"/>
          <a:stretch/>
        </p:blipFill>
        <p:spPr>
          <a:xfrm>
            <a:off x="146160" y="1235160"/>
            <a:ext cx="8851680" cy="43876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3"/>
          <a:stretch/>
        </p:blipFill>
        <p:spPr>
          <a:xfrm>
            <a:off x="770040" y="24606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4"/>
          <a:stretch/>
        </p:blipFill>
        <p:spPr>
          <a:xfrm>
            <a:off x="826920" y="32846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5"/>
          <a:stretch/>
        </p:blipFill>
        <p:spPr>
          <a:xfrm>
            <a:off x="826920" y="4076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6"/>
          <a:stretch/>
        </p:blipFill>
        <p:spPr>
          <a:xfrm>
            <a:off x="826920" y="48830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1" name="图片 1" descr=""/>
          <p:cNvPicPr/>
          <p:nvPr/>
        </p:nvPicPr>
        <p:blipFill>
          <a:blip r:embed="rId1"/>
          <a:stretch/>
        </p:blipFill>
        <p:spPr>
          <a:xfrm>
            <a:off x="14400" y="2220840"/>
            <a:ext cx="9115200" cy="24163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2"/>
          <a:stretch/>
        </p:blipFill>
        <p:spPr>
          <a:xfrm>
            <a:off x="684360" y="26035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3"/>
          <a:stretch/>
        </p:blipFill>
        <p:spPr>
          <a:xfrm>
            <a:off x="684360" y="30402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4"/>
          <a:stretch/>
        </p:blipFill>
        <p:spPr>
          <a:xfrm>
            <a:off x="684360" y="34434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5"/>
          <a:stretch/>
        </p:blipFill>
        <p:spPr>
          <a:xfrm>
            <a:off x="684360" y="38466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6"/>
          <a:stretch/>
        </p:blipFill>
        <p:spPr>
          <a:xfrm>
            <a:off x="684360" y="424980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9" name="图片 2" descr=""/>
          <p:cNvPicPr/>
          <p:nvPr/>
        </p:nvPicPr>
        <p:blipFill>
          <a:blip r:embed="rId1"/>
          <a:stretch/>
        </p:blipFill>
        <p:spPr>
          <a:xfrm>
            <a:off x="90360" y="2274840"/>
            <a:ext cx="8961480" cy="230976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2"/>
          <a:stretch/>
        </p:blipFill>
        <p:spPr>
          <a:xfrm>
            <a:off x="755640" y="26510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3"/>
          <a:stretch/>
        </p:blipFill>
        <p:spPr>
          <a:xfrm>
            <a:off x="755640" y="30830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4"/>
          <a:stretch/>
        </p:blipFill>
        <p:spPr>
          <a:xfrm>
            <a:off x="755640" y="3500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5"/>
          <a:stretch/>
        </p:blipFill>
        <p:spPr>
          <a:xfrm>
            <a:off x="755640" y="38750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6"/>
          <a:stretch/>
        </p:blipFill>
        <p:spPr>
          <a:xfrm>
            <a:off x="755640" y="42782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7" name="图片 1" descr=""/>
          <p:cNvPicPr/>
          <p:nvPr/>
        </p:nvPicPr>
        <p:blipFill>
          <a:blip r:embed="rId1"/>
          <a:stretch/>
        </p:blipFill>
        <p:spPr>
          <a:xfrm>
            <a:off x="76320" y="1152360"/>
            <a:ext cx="8991360" cy="455328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2"/>
          <a:stretch/>
        </p:blipFill>
        <p:spPr>
          <a:xfrm>
            <a:off x="900000" y="1989000"/>
            <a:ext cx="3672000" cy="32076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3"/>
          <a:stretch/>
        </p:blipFill>
        <p:spPr>
          <a:xfrm>
            <a:off x="900000" y="2824200"/>
            <a:ext cx="3672000" cy="32076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4"/>
          <a:stretch/>
        </p:blipFill>
        <p:spPr>
          <a:xfrm>
            <a:off x="826920" y="3645000"/>
            <a:ext cx="3672000" cy="32040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5"/>
          <a:stretch/>
        </p:blipFill>
        <p:spPr>
          <a:xfrm>
            <a:off x="755640" y="4479840"/>
            <a:ext cx="3672000" cy="32076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6"/>
          <a:stretch/>
        </p:blipFill>
        <p:spPr>
          <a:xfrm>
            <a:off x="684360" y="5300640"/>
            <a:ext cx="367164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5" name="图片 1" descr=""/>
          <p:cNvPicPr/>
          <p:nvPr/>
        </p:nvPicPr>
        <p:blipFill>
          <a:blip r:embed="rId1"/>
          <a:stretch/>
        </p:blipFill>
        <p:spPr>
          <a:xfrm>
            <a:off x="447840" y="766800"/>
            <a:ext cx="8248320" cy="532440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2"/>
          <a:stretch/>
        </p:blipFill>
        <p:spPr>
          <a:xfrm>
            <a:off x="2195640" y="1197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3"/>
          <a:stretch/>
        </p:blipFill>
        <p:spPr>
          <a:xfrm>
            <a:off x="2195640" y="21034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4"/>
          <a:stretch/>
        </p:blipFill>
        <p:spPr>
          <a:xfrm>
            <a:off x="2195640" y="30114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5"/>
          <a:stretch/>
        </p:blipFill>
        <p:spPr>
          <a:xfrm>
            <a:off x="5219640" y="34574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" descr=""/>
          <p:cNvPicPr/>
          <p:nvPr/>
        </p:nvPicPr>
        <p:blipFill>
          <a:blip r:embed="rId6"/>
          <a:stretch/>
        </p:blipFill>
        <p:spPr>
          <a:xfrm>
            <a:off x="2050920" y="52862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33:45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